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EF01F-EDE7-42CD-89AD-FF58F4971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996C1-0038-4F2C-A898-8546AA7A4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A50AB-218B-4E8F-9CBE-087A42BC0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A0B4D-1891-4B26-ABE4-1FF302A70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41496-5600-434A-898A-E4EAC3561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C6F1F-FCE8-48C4-80B7-24B1099FE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CA767-8CC9-41FF-92EF-F54420FDA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97182-EE4A-4397-B036-1AA60CC67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4B980-7918-4180-B4CB-423A2F951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736B0-87B0-4261-BA6F-9809E013E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517B9-AE01-49B1-94E0-B0088EA57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7EA81-835D-4CEA-9F43-F71354838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A82D7-48EF-43F5-98AB-FCD41D6FAB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rigonometry Quiz o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ine, Cosine and Tang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f the Quad 1 Special Ang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048120"/>
            <a:ext cx="64008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give the correct answer to each ques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1355760" y="1219320"/>
          <a:ext cx="4027320" cy="312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55760" y="1219320"/>
                    <a:ext cx="4027320" cy="31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1353960" y="1219320"/>
          <a:ext cx="4027680" cy="312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53960" y="1219320"/>
                    <a:ext cx="4027680" cy="31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1405080" y="1219320"/>
          <a:ext cx="3927240" cy="312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5080" y="1219320"/>
                    <a:ext cx="3927240" cy="31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1355760" y="1219320"/>
          <a:ext cx="4027320" cy="312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55760" y="1219320"/>
                    <a:ext cx="4027320" cy="31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1353960" y="1219320"/>
          <a:ext cx="4027680" cy="312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53960" y="1219320"/>
                    <a:ext cx="4027680" cy="31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1405080" y="1219320"/>
          <a:ext cx="3927240" cy="312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5080" y="1219320"/>
                    <a:ext cx="3927240" cy="31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1355760" y="1219320"/>
          <a:ext cx="4027320" cy="312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55760" y="1219320"/>
                    <a:ext cx="4027320" cy="31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1353960" y="1219320"/>
          <a:ext cx="4027680" cy="312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53960" y="1219320"/>
                    <a:ext cx="4027680" cy="31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1405080" y="1219320"/>
          <a:ext cx="3927240" cy="312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5080" y="1219320"/>
                    <a:ext cx="3927240" cy="31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"/>
          <p:cNvGraphicFramePr/>
          <p:nvPr/>
        </p:nvGraphicFramePr>
        <p:xfrm>
          <a:off x="1355760" y="1219320"/>
          <a:ext cx="4027320" cy="312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55760" y="1219320"/>
                    <a:ext cx="4027320" cy="31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1353960" y="1219320"/>
          <a:ext cx="4027680" cy="312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53960" y="1219320"/>
                    <a:ext cx="4027680" cy="31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1353960" y="1219320"/>
          <a:ext cx="4027680" cy="312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53960" y="1219320"/>
                    <a:ext cx="4027680" cy="31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" name=""/>
          <p:cNvGraphicFramePr/>
          <p:nvPr/>
        </p:nvGraphicFramePr>
        <p:xfrm>
          <a:off x="1405080" y="1219320"/>
          <a:ext cx="3927240" cy="312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5080" y="1219320"/>
                    <a:ext cx="3927240" cy="31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3" name=""/>
          <p:cNvGraphicFramePr/>
          <p:nvPr/>
        </p:nvGraphicFramePr>
        <p:xfrm>
          <a:off x="1355760" y="1219320"/>
          <a:ext cx="4027320" cy="312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55760" y="1219320"/>
                    <a:ext cx="4027320" cy="31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" name=""/>
          <p:cNvGraphicFramePr/>
          <p:nvPr/>
        </p:nvGraphicFramePr>
        <p:xfrm>
          <a:off x="1405080" y="1219320"/>
          <a:ext cx="3927240" cy="312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5080" y="1219320"/>
                    <a:ext cx="3927240" cy="31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" name=""/>
          <p:cNvGraphicFramePr/>
          <p:nvPr/>
        </p:nvGraphicFramePr>
        <p:xfrm>
          <a:off x="1353960" y="1219320"/>
          <a:ext cx="4027680" cy="312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53960" y="1219320"/>
                    <a:ext cx="4027680" cy="31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" name=""/>
          <p:cNvGraphicFramePr/>
          <p:nvPr/>
        </p:nvGraphicFramePr>
        <p:xfrm>
          <a:off x="1355760" y="1219320"/>
          <a:ext cx="4027320" cy="312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55760" y="1219320"/>
                    <a:ext cx="4027320" cy="31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" name=""/>
          <p:cNvGraphicFramePr/>
          <p:nvPr/>
        </p:nvGraphicFramePr>
        <p:xfrm>
          <a:off x="1405080" y="1219320"/>
          <a:ext cx="3927240" cy="312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5080" y="1219320"/>
                    <a:ext cx="3927240" cy="31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" name=""/>
          <p:cNvGraphicFramePr/>
          <p:nvPr/>
        </p:nvGraphicFramePr>
        <p:xfrm>
          <a:off x="1355760" y="1219320"/>
          <a:ext cx="4027320" cy="312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55760" y="1219320"/>
                    <a:ext cx="4027320" cy="31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5" name=""/>
          <p:cNvGraphicFramePr/>
          <p:nvPr/>
        </p:nvGraphicFramePr>
        <p:xfrm>
          <a:off x="1353960" y="1219320"/>
          <a:ext cx="4027680" cy="312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53960" y="1219320"/>
                    <a:ext cx="4027680" cy="31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1405080" y="1219320"/>
          <a:ext cx="3927240" cy="312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5080" y="1219320"/>
                    <a:ext cx="3927240" cy="31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1355760" y="1219320"/>
          <a:ext cx="4027320" cy="312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55760" y="1219320"/>
                    <a:ext cx="4027320" cy="31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1353960" y="1219320"/>
          <a:ext cx="4027680" cy="312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53960" y="1219320"/>
                    <a:ext cx="4027680" cy="31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1405080" y="1219320"/>
          <a:ext cx="3927240" cy="312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5080" y="1219320"/>
                    <a:ext cx="3927240" cy="31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1355760" y="1219320"/>
          <a:ext cx="4027320" cy="312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55760" y="1219320"/>
                    <a:ext cx="4027320" cy="31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1353960" y="1219320"/>
          <a:ext cx="4027680" cy="312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53960" y="1219320"/>
                    <a:ext cx="4027680" cy="31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1405080" y="1219320"/>
          <a:ext cx="3927240" cy="312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5080" y="1219320"/>
                    <a:ext cx="3927240" cy="31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2T19:23:02Z</dcterms:created>
  <dc:creator> John</dc:creator>
  <dc:description/>
  <dc:language>en-US</dc:language>
  <cp:lastModifiedBy> John</cp:lastModifiedBy>
  <dcterms:modified xsi:type="dcterms:W3CDTF">2009-02-04T21:06:08Z</dcterms:modified>
  <cp:revision>8</cp:revision>
  <dc:subject/>
  <dc:title>Slide 1</dc:title>
</cp:coreProperties>
</file>